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2.png" ContentType="image/png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9.wmf" ContentType="image/x-wmf"/>
  <Override PartName="/ppt/media/image5.jpeg" ContentType="image/jpeg"/>
  <Override PartName="/ppt/media/image20.wmf" ContentType="image/x-wmf"/>
  <Override PartName="/ppt/media/image24.png" ContentType="image/png"/>
  <Override PartName="/ppt/media/image18.jpeg" ContentType="image/jpeg"/>
  <Override PartName="/ppt/media/image21.wmf" ContentType="image/x-wmf"/>
  <Override PartName="/ppt/media/image19.wmf" ContentType="image/x-wmf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110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246C-F762-4FFF-A51C-A433E274CF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bonfires to la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bonfires to la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see things that are not sources of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bounces of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 reaches our e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see things that are not sources of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bounces of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 reaches our e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look out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that the baby squirrel watches as it fee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look out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that the baby squirrel watches as it fee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ight bounces off someth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ay the light is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try this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 surf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hiny surfa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ight bounces off someth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ay the light is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try this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 surf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hiny surfa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ny surf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reflected as a beam and can be seen on the w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ny surf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reflected as a beam and can be seen on the w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mirr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reaches a different place on the w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mirr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reaches a different place on the w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in a mirr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see a ref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in a mirr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see a ref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irection of the light b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still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ee a reflec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different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irection of the light b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still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ee a reflec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different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mp hangs between two large mirrors on opposite w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lection in the first mirror is reflected in the second mirror, which is reflected again in the first mirror - -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mp hangs between two large mirrors on opposite w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lection in the first mirror is reflected in the second mirror, which is reflected again in the first mirror - -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s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s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 objects give out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n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 objects give out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n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light shining on 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e colours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light shining on 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e colours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b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b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light is made up of lots of col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light is made up of lots of col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s from whit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a lamp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through the gr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see                           col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s from whit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a lamp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through the gr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see                           col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colou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h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ifferent to adding p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colou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h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ifferent to adding p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+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d +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et in Ven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et in Ven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ue +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ue +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 +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een +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iry l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iry l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s- produce very bright beams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s all give out their ligh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s use laser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eflectio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s- produce very bright beams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s all give out their ligh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s use laser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eflectio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face has tiny pits and smooth 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spiral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its scatter light from a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ooth bits reflect th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a coded message is re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face has tiny pits and smooth 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spiral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its scatter light from a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ooth bits reflect th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a coded message is re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is in ever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is in ever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and galaxies give out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:  Liverpool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and galaxies give out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:  Liverpool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m living in dark caves sends out light from its t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droplets form a string of shining beads to attract ins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il of w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m living in dark caves sends out light from its t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droplets form a string of shining beads to attract ins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il of w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cold things give out ligh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ung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w w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t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w-in-the-dark’ sti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cold things give out ligh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ung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w w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t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w-in-the-dark’ sti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see light sourc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travels from a source to our e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see sources in a dark ro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see light sourc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travels from a source to our e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see sources in a dark ro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we see in the da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is no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not see anyth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a test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a few small objects into the black bag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we see in the da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is no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not see anyth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a test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a few small objects into the black bag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06BAB-4956-4AB5-8FF7-6A9464B9F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153B8-370C-4CDC-8EDC-7A35E0CD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34F50-86CC-4B47-9A1C-4AD45E59C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606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652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75564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606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652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BE53B-6892-4CD9-998B-3FFF1AB2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50061-9FCF-4FB9-B7C8-BC0B73CDE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20640-CB78-4DEF-B13D-C29BE467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906B3-36C9-4677-A274-7DCB74BF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9DFB0-54E4-46F1-8359-737E29A5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64F7A-F999-405B-8B14-CC59FC43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692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8A0DF-92E7-4219-A134-CF801208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EEE41-F24E-4185-91B2-A1CF5CF3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7CE61-2C6E-4D72-8C6F-350C28CC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B519E-D662-4BB6-BE6E-535A11FA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94F8B-7EE8-4457-943E-7937E4E5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754E3-D22D-40EB-96E8-858D9059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79A3F-8003-493D-857B-9C671EEC7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606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652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75564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606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652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E2660-795E-4F6D-878B-3D7C9082F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CC8F7-D665-4584-A835-20487BD5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F1EBE-2C2A-4379-9989-7592BED2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80EA4-B8D9-4B18-A70E-6DD9B599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47B1D-07DA-427E-BA83-DA1B350A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07E6C-EDF1-47E7-A5D8-C78DDBE9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B13F9-BF32-4E58-AB66-D1A6E759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692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22A01-0A54-4E8B-B0CB-FD49F0DE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C4D12-1A08-4B57-8676-0F4C5652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5D15A-11F5-4AB2-9D34-00DB8251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E041C-2E6D-44E8-B887-7F2D1E9F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8FA83-F0DE-4C7C-8A4B-24CD34E6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6B9D0-6CCE-494F-9D1C-0500CF168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606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652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5564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606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652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3A34A-0FBE-4665-B6D1-422B7425F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33650-2903-4185-B63F-291EDC33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324BA-C626-4BE5-B372-86FEA517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8CEA1-5530-4594-9A30-9FC6BA36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4CAF3-C34B-4FE1-AD55-E48995A0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6D1EC-6BFF-4F53-8A03-B5606D6B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D71E5-B69B-444B-BFB1-2AC88BE8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692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966D1-D1C5-412A-AF9A-00295419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5AD34-A52F-46A0-9E91-04B9DF62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103B7-E2B7-4061-8C90-C97B449B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5DEE8-D253-4F6E-8CEF-A4F7F16F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FD037-F4DB-4EA9-8DAC-2CF9103F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7347D-031C-45DC-8A0D-618175DC0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606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652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75564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606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652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F33B8-0CCF-45D2-8D12-4F107AC82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88E4C-91F9-485A-A0F1-221CBC8D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692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666BD-5754-4B06-A983-1357CF7C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DF73E-4D73-4D40-BFA5-330285A7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A5220-BA38-433E-B40A-585B92DC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A4DB0-000A-4E9D-B6DF-8B765913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CF66-D055-4A96-A31E-0B5EC13E3891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11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690840" indent="-26568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2" marL="1062720" indent="-21240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3" marL="1487880" indent="-21240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4" marL="1913040" indent="-2124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41A8-3A00-4728-AD42-FEC3B7CEC161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11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body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690840" indent="-26568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2" marL="1062720" indent="-21240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3" marL="1487880" indent="-21240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4" marL="1913040" indent="-2124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11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690840" indent="-26568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2" marL="1062720" indent="-21240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3" marL="1487880" indent="-21240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4" marL="1913040" indent="-2124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44AA-4CD3-415C-88D5-26C1E2CDE0E7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11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690840" indent="-26568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2" marL="1062720" indent="-21240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3" marL="1487880" indent="-21240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4" marL="1913040" indent="-2124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7929-4AEB-490A-93B6-47888A03A740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9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500" spc="-1" strike="noStrike">
                <a:solidFill>
                  <a:srgbClr val="ffffff"/>
                </a:solidFill>
                <a:latin typeface="Comic Sans MS"/>
              </a:rPr>
              <a:t>LIGHT !</a:t>
            </a:r>
            <a:endParaRPr b="1" lang="en-US" sz="115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971280" y="4005360"/>
            <a:ext cx="7848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9933ff"/>
              </a:solidFill>
              <a:latin typeface="Comic Sans MS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from bonfires to lasers</a:t>
            </a:r>
            <a:endParaRPr b="1" lang="en-US" sz="5400" spc="-1" strike="noStrike">
              <a:solidFill>
                <a:srgbClr val="9933ff"/>
              </a:solidFill>
              <a:latin typeface="Comic Sans MS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How do we see things that are not sources of light?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4360" y="5805000"/>
            <a:ext cx="770400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Light bounces off 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and some reaches our eyes.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65" name="Picture 4" descr="MCj02151650000[1]"/>
          <p:cNvPicPr/>
          <p:nvPr/>
        </p:nvPicPr>
        <p:blipFill>
          <a:blip r:embed="rId1"/>
          <a:stretch/>
        </p:blipFill>
        <p:spPr>
          <a:xfrm flipH="1" rot="20750400">
            <a:off x="826560" y="1916280"/>
            <a:ext cx="2304720" cy="2031840"/>
          </a:xfrm>
          <a:prstGeom prst="rect">
            <a:avLst/>
          </a:prstGeom>
          <a:ln w="0">
            <a:noFill/>
          </a:ln>
        </p:spPr>
      </p:pic>
      <p:grpSp>
        <p:nvGrpSpPr>
          <p:cNvPr id="266" name="Group 5"/>
          <p:cNvGrpSpPr/>
          <p:nvPr/>
        </p:nvGrpSpPr>
        <p:grpSpPr>
          <a:xfrm>
            <a:off x="7211160" y="2182680"/>
            <a:ext cx="1354680" cy="1810080"/>
            <a:chOff x="7211160" y="2182680"/>
            <a:chExt cx="1354680" cy="1810080"/>
          </a:xfrm>
        </p:grpSpPr>
        <p:sp>
          <p:nvSpPr>
            <p:cNvPr id="267" name="Freeform 6"/>
            <p:cNvSpPr/>
            <p:nvPr/>
          </p:nvSpPr>
          <p:spPr>
            <a:xfrm rot="20749200">
              <a:off x="7412760" y="2276280"/>
              <a:ext cx="968760" cy="1622160"/>
            </a:xfrm>
            <a:custGeom>
              <a:avLst/>
              <a:gdLst>
                <a:gd name="textAreaLeft" fmla="*/ 0 w 968760"/>
                <a:gd name="textAreaRight" fmla="*/ 969120 w 968760"/>
                <a:gd name="textAreaTop" fmla="*/ 0 h 1622160"/>
                <a:gd name="textAreaBottom" fmla="*/ 1622520 h 1622160"/>
              </a:gdLst>
              <a:ahLst/>
              <a:rect l="textAreaLeft" t="textAreaTop" r="textAreaRight" b="textAreaBottom"/>
              <a:pathLst>
                <a:path w="1527" h="2555">
                  <a:moveTo>
                    <a:pt x="300" y="0"/>
                  </a:moveTo>
                  <a:cubicBezTo>
                    <a:pt x="317" y="84"/>
                    <a:pt x="351" y="101"/>
                    <a:pt x="388" y="176"/>
                  </a:cubicBezTo>
                  <a:cubicBezTo>
                    <a:pt x="429" y="258"/>
                    <a:pt x="490" y="321"/>
                    <a:pt x="538" y="401"/>
                  </a:cubicBezTo>
                  <a:cubicBezTo>
                    <a:pt x="580" y="470"/>
                    <a:pt x="624" y="552"/>
                    <a:pt x="676" y="614"/>
                  </a:cubicBezTo>
                  <a:cubicBezTo>
                    <a:pt x="703" y="646"/>
                    <a:pt x="739" y="669"/>
                    <a:pt x="764" y="702"/>
                  </a:cubicBezTo>
                  <a:cubicBezTo>
                    <a:pt x="839" y="803"/>
                    <a:pt x="907" y="932"/>
                    <a:pt x="1014" y="1002"/>
                  </a:cubicBezTo>
                  <a:cubicBezTo>
                    <a:pt x="1073" y="1091"/>
                    <a:pt x="1153" y="1153"/>
                    <a:pt x="1227" y="1228"/>
                  </a:cubicBezTo>
                  <a:cubicBezTo>
                    <a:pt x="1318" y="1320"/>
                    <a:pt x="1214" y="1245"/>
                    <a:pt x="1302" y="1303"/>
                  </a:cubicBezTo>
                  <a:cubicBezTo>
                    <a:pt x="1310" y="1315"/>
                    <a:pt x="1314" y="1332"/>
                    <a:pt x="1327" y="1340"/>
                  </a:cubicBezTo>
                  <a:cubicBezTo>
                    <a:pt x="1349" y="1354"/>
                    <a:pt x="1402" y="1365"/>
                    <a:pt x="1402" y="1365"/>
                  </a:cubicBezTo>
                  <a:cubicBezTo>
                    <a:pt x="1445" y="1398"/>
                    <a:pt x="1476" y="1435"/>
                    <a:pt x="1527" y="1453"/>
                  </a:cubicBezTo>
                  <a:cubicBezTo>
                    <a:pt x="1502" y="1461"/>
                    <a:pt x="1478" y="1472"/>
                    <a:pt x="1452" y="1478"/>
                  </a:cubicBezTo>
                  <a:cubicBezTo>
                    <a:pt x="1419" y="1486"/>
                    <a:pt x="1352" y="1503"/>
                    <a:pt x="1352" y="1503"/>
                  </a:cubicBezTo>
                  <a:cubicBezTo>
                    <a:pt x="1284" y="1548"/>
                    <a:pt x="1254" y="1543"/>
                    <a:pt x="1164" y="1553"/>
                  </a:cubicBezTo>
                  <a:cubicBezTo>
                    <a:pt x="1123" y="1580"/>
                    <a:pt x="1082" y="1591"/>
                    <a:pt x="1039" y="1616"/>
                  </a:cubicBezTo>
                  <a:cubicBezTo>
                    <a:pt x="942" y="1672"/>
                    <a:pt x="850" y="1727"/>
                    <a:pt x="751" y="1779"/>
                  </a:cubicBezTo>
                  <a:cubicBezTo>
                    <a:pt x="708" y="1801"/>
                    <a:pt x="665" y="1825"/>
                    <a:pt x="626" y="1854"/>
                  </a:cubicBezTo>
                  <a:cubicBezTo>
                    <a:pt x="607" y="1868"/>
                    <a:pt x="594" y="1889"/>
                    <a:pt x="576" y="1904"/>
                  </a:cubicBezTo>
                  <a:cubicBezTo>
                    <a:pt x="560" y="1918"/>
                    <a:pt x="543" y="1929"/>
                    <a:pt x="526" y="1941"/>
                  </a:cubicBezTo>
                  <a:cubicBezTo>
                    <a:pt x="472" y="1978"/>
                    <a:pt x="408" y="2018"/>
                    <a:pt x="363" y="2067"/>
                  </a:cubicBezTo>
                  <a:cubicBezTo>
                    <a:pt x="177" y="2273"/>
                    <a:pt x="366" y="2081"/>
                    <a:pt x="250" y="2229"/>
                  </a:cubicBezTo>
                  <a:cubicBezTo>
                    <a:pt x="235" y="2248"/>
                    <a:pt x="216" y="2261"/>
                    <a:pt x="200" y="2279"/>
                  </a:cubicBezTo>
                  <a:cubicBezTo>
                    <a:pt x="182" y="2299"/>
                    <a:pt x="166" y="2320"/>
                    <a:pt x="150" y="2342"/>
                  </a:cubicBezTo>
                  <a:cubicBezTo>
                    <a:pt x="117" y="2386"/>
                    <a:pt x="102" y="2428"/>
                    <a:pt x="62" y="2467"/>
                  </a:cubicBezTo>
                  <a:cubicBezTo>
                    <a:pt x="49" y="2509"/>
                    <a:pt x="29" y="2523"/>
                    <a:pt x="0" y="255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rc 7"/>
            <p:cNvSpPr/>
            <p:nvPr/>
          </p:nvSpPr>
          <p:spPr>
            <a:xfrm rot="13945800">
              <a:off x="7310160" y="2798640"/>
              <a:ext cx="864720" cy="675360"/>
            </a:xfrm>
            <a:custGeom>
              <a:avLst/>
              <a:gdLst>
                <a:gd name="textAreaLeft" fmla="*/ 0 w 864720"/>
                <a:gd name="textAreaRight" fmla="*/ 865080 w 864720"/>
                <a:gd name="textAreaTop" fmla="*/ 0 h 675360"/>
                <a:gd name="textAreaBottom" fmla="*/ 675720 h 675360"/>
              </a:gdLst>
              <a:ahLst/>
              <a:rect l="textAreaLeft" t="textAreaTop" r="textAreaRight" b="textAreaBottom"/>
              <a:pathLst>
                <a:path fill="none" w="21368" h="21600">
                  <a:moveTo>
                    <a:pt x="-1" y="0"/>
                  </a:moveTo>
                  <a:cubicBezTo>
                    <a:pt x="10708" y="0"/>
                    <a:pt x="19800" y="7845"/>
                    <a:pt x="21367" y="18439"/>
                  </a:cubicBezTo>
                </a:path>
                <a:path stroke="0" w="21368" h="21600">
                  <a:moveTo>
                    <a:pt x="-1" y="0"/>
                  </a:moveTo>
                  <a:cubicBezTo>
                    <a:pt x="10708" y="0"/>
                    <a:pt x="19800" y="7845"/>
                    <a:pt x="21367" y="1843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8"/>
            <p:cNvSpPr/>
            <p:nvPr/>
          </p:nvSpPr>
          <p:spPr>
            <a:xfrm rot="21081000">
              <a:off x="7521480" y="2904840"/>
              <a:ext cx="154080" cy="58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rc 9"/>
            <p:cNvSpPr/>
            <p:nvPr/>
          </p:nvSpPr>
          <p:spPr>
            <a:xfrm rot="2116200">
              <a:off x="7380360" y="2820240"/>
              <a:ext cx="654480" cy="722880"/>
            </a:xfrm>
            <a:custGeom>
              <a:avLst/>
              <a:gdLst>
                <a:gd name="textAreaLeft" fmla="*/ 0 w 654480"/>
                <a:gd name="textAreaRight" fmla="*/ 654840 w 65448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fill="none" w="21628" h="21600">
                  <a:moveTo>
                    <a:pt x="0" y="0"/>
                  </a:moveTo>
                  <a:cubicBezTo>
                    <a:pt x="9" y="0"/>
                    <a:pt x="18" y="-1"/>
                    <a:pt x="28" y="0"/>
                  </a:cubicBezTo>
                  <a:cubicBezTo>
                    <a:pt x="11957" y="0"/>
                    <a:pt x="21628" y="9670"/>
                    <a:pt x="21628" y="21600"/>
                  </a:cubicBezTo>
                </a:path>
                <a:path stroke="0" w="21628" h="21600">
                  <a:moveTo>
                    <a:pt x="0" y="0"/>
                  </a:moveTo>
                  <a:cubicBezTo>
                    <a:pt x="9" y="0"/>
                    <a:pt x="18" y="-1"/>
                    <a:pt x="28" y="0"/>
                  </a:cubicBezTo>
                  <a:cubicBezTo>
                    <a:pt x="11957" y="0"/>
                    <a:pt x="21628" y="9670"/>
                    <a:pt x="21628" y="21600"/>
                  </a:cubicBezTo>
                  <a:lnTo>
                    <a:pt x="28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1" name="Picture 13" descr="MCj02511320000[1]"/>
          <p:cNvPicPr/>
          <p:nvPr/>
        </p:nvPicPr>
        <p:blipFill>
          <a:blip r:embed="rId2"/>
          <a:stretch/>
        </p:blipFill>
        <p:spPr>
          <a:xfrm>
            <a:off x="3851280" y="3824280"/>
            <a:ext cx="2376360" cy="1878120"/>
          </a:xfrm>
          <a:prstGeom prst="rect">
            <a:avLst/>
          </a:prstGeom>
          <a:ln w="0">
            <a:noFill/>
          </a:ln>
        </p:spPr>
      </p:pic>
      <p:sp>
        <p:nvSpPr>
          <p:cNvPr id="272" name="Line 19"/>
          <p:cNvSpPr/>
          <p:nvPr/>
        </p:nvSpPr>
        <p:spPr>
          <a:xfrm flipV="1">
            <a:off x="5651640" y="2491920"/>
            <a:ext cx="720720" cy="136836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0"/>
          <p:cNvSpPr/>
          <p:nvPr/>
        </p:nvSpPr>
        <p:spPr>
          <a:xfrm>
            <a:off x="3059280" y="3429000"/>
            <a:ext cx="1081080" cy="57636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3"/>
          <p:cNvSpPr/>
          <p:nvPr/>
        </p:nvSpPr>
        <p:spPr>
          <a:xfrm flipV="1">
            <a:off x="6084720" y="3428640"/>
            <a:ext cx="1297080" cy="64764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4"/>
          <p:cNvSpPr/>
          <p:nvPr/>
        </p:nvSpPr>
        <p:spPr>
          <a:xfrm>
            <a:off x="6300720" y="4797360"/>
            <a:ext cx="1297080" cy="21600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On the look out</a:t>
            </a:r>
            <a:r>
              <a:rPr b="1" lang="en-GB" sz="900" spc="-1" strike="noStrike">
                <a:solidFill>
                  <a:srgbClr val="fe2110"/>
                </a:solidFill>
                <a:latin typeface="Comic Sans MS"/>
              </a:rPr>
              <a:t> 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!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940360" y="692280"/>
            <a:ext cx="26640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How do you know that the baby squirrel watches as it feeds?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79" name="Picture 4" descr="baby squirre croppedl"/>
          <p:cNvPicPr/>
          <p:nvPr/>
        </p:nvPicPr>
        <p:blipFill>
          <a:blip r:embed="rId1"/>
          <a:stretch/>
        </p:blipFill>
        <p:spPr>
          <a:xfrm>
            <a:off x="539640" y="2781360"/>
            <a:ext cx="5616720" cy="3263760"/>
          </a:xfrm>
          <a:prstGeom prst="rect">
            <a:avLst/>
          </a:prstGeom>
          <a:ln w="0">
            <a:noFill/>
          </a:ln>
        </p:spPr>
      </p:pic>
      <p:sp>
        <p:nvSpPr>
          <p:cNvPr id="28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Reflection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70400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When light bounces off something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say the light is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reflecte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We can try this with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ough surfaces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shiny surface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46069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4716360" y="0"/>
            <a:ext cx="442764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00720" y="404640"/>
            <a:ext cx="4124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Shiny surfaces 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1280" y="5589360"/>
            <a:ext cx="5184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Light is reflected as a beam and can be seen on the wall.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  <p:grpSp>
        <p:nvGrpSpPr>
          <p:cNvPr id="289" name="Group 16"/>
          <p:cNvGrpSpPr/>
          <p:nvPr/>
        </p:nvGrpSpPr>
        <p:grpSpPr>
          <a:xfrm>
            <a:off x="900000" y="560160"/>
            <a:ext cx="6143400" cy="5300280"/>
            <a:chOff x="900000" y="560160"/>
            <a:chExt cx="6143400" cy="5300280"/>
          </a:xfrm>
        </p:grpSpPr>
        <p:pic>
          <p:nvPicPr>
            <p:cNvPr id="290" name="Picture 6" descr="hand-mirror"/>
            <p:cNvPicPr/>
            <p:nvPr/>
          </p:nvPicPr>
          <p:blipFill>
            <a:blip r:embed="rId1"/>
            <a:stretch/>
          </p:blipFill>
          <p:spPr>
            <a:xfrm rot="16483200">
              <a:off x="4274280" y="3221640"/>
              <a:ext cx="412272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Line 7"/>
            <p:cNvSpPr/>
            <p:nvPr/>
          </p:nvSpPr>
          <p:spPr>
            <a:xfrm flipV="1">
              <a:off x="4140360" y="3933720"/>
              <a:ext cx="2158920" cy="93672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8"/>
            <p:cNvSpPr/>
            <p:nvPr/>
          </p:nvSpPr>
          <p:spPr>
            <a:xfrm flipH="1" flipV="1">
              <a:off x="4211640" y="2204640"/>
              <a:ext cx="2016000" cy="158436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9"/>
            <p:cNvSpPr/>
            <p:nvPr/>
          </p:nvSpPr>
          <p:spPr>
            <a:xfrm rot="9786600">
              <a:off x="1547280" y="907200"/>
              <a:ext cx="2819520" cy="2884680"/>
            </a:xfrm>
            <a:prstGeom prst="parallelogram">
              <a:avLst>
                <a:gd name="adj" fmla="val 29940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0"/>
            <p:cNvSpPr/>
            <p:nvPr/>
          </p:nvSpPr>
          <p:spPr>
            <a:xfrm>
              <a:off x="2771640" y="1341360"/>
              <a:ext cx="792360" cy="72072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1"/>
            <p:cNvSpPr/>
            <p:nvPr/>
          </p:nvSpPr>
          <p:spPr>
            <a:xfrm>
              <a:off x="900000" y="256536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omic Sans MS"/>
                </a:rPr>
                <a:t>w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 Box 17"/>
          <p:cNvSpPr/>
          <p:nvPr/>
        </p:nvSpPr>
        <p:spPr>
          <a:xfrm>
            <a:off x="6877080" y="44370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i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284720" y="404640"/>
            <a:ext cx="4340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Move the mirror 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1280" y="5589360"/>
            <a:ext cx="5400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light reaches a different place on the wall.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00" name="Picture 5" descr="hand-mirror"/>
          <p:cNvPicPr/>
          <p:nvPr/>
        </p:nvPicPr>
        <p:blipFill>
          <a:blip r:embed="rId1"/>
          <a:stretch/>
        </p:blipFill>
        <p:spPr>
          <a:xfrm rot="15195600">
            <a:off x="4274280" y="3294720"/>
            <a:ext cx="4122720" cy="1079640"/>
          </a:xfrm>
          <a:prstGeom prst="rect">
            <a:avLst/>
          </a:prstGeom>
          <a:ln w="0">
            <a:noFill/>
          </a:ln>
        </p:spPr>
      </p:pic>
      <p:sp>
        <p:nvSpPr>
          <p:cNvPr id="301" name="Line 6"/>
          <p:cNvSpPr/>
          <p:nvPr/>
        </p:nvSpPr>
        <p:spPr>
          <a:xfrm flipV="1">
            <a:off x="4140360" y="4005000"/>
            <a:ext cx="2158920" cy="93636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7"/>
          <p:cNvSpPr/>
          <p:nvPr/>
        </p:nvSpPr>
        <p:spPr>
          <a:xfrm flipH="1" flipV="1">
            <a:off x="3995640" y="3357360"/>
            <a:ext cx="2232000" cy="50292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8"/>
          <p:cNvSpPr/>
          <p:nvPr/>
        </p:nvSpPr>
        <p:spPr>
          <a:xfrm rot="9786600">
            <a:off x="1547280" y="907200"/>
            <a:ext cx="2819520" cy="2884680"/>
          </a:xfrm>
          <a:prstGeom prst="parallelogram">
            <a:avLst>
              <a:gd name="adj" fmla="val 2994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9"/>
          <p:cNvSpPr/>
          <p:nvPr/>
        </p:nvSpPr>
        <p:spPr>
          <a:xfrm>
            <a:off x="2843280" y="2852640"/>
            <a:ext cx="792000" cy="7207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900000" y="2565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Look in a mirror 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276360" y="1484280"/>
            <a:ext cx="74149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ight is reflected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You can see a reflection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grpSp>
        <p:nvGrpSpPr>
          <p:cNvPr id="309" name="Group 19"/>
          <p:cNvGrpSpPr/>
          <p:nvPr/>
        </p:nvGrpSpPr>
        <p:grpSpPr>
          <a:xfrm>
            <a:off x="607680" y="1612800"/>
            <a:ext cx="7814160" cy="3832200"/>
            <a:chOff x="607680" y="1612800"/>
            <a:chExt cx="7814160" cy="3832200"/>
          </a:xfrm>
        </p:grpSpPr>
        <p:sp>
          <p:nvSpPr>
            <p:cNvPr id="310" name="Line 16"/>
            <p:cNvSpPr/>
            <p:nvPr/>
          </p:nvSpPr>
          <p:spPr>
            <a:xfrm flipV="1">
              <a:off x="2843280" y="4437000"/>
              <a:ext cx="1869840" cy="1008000"/>
            </a:xfrm>
            <a:prstGeom prst="line">
              <a:avLst/>
            </a:prstGeom>
            <a:ln w="114480">
              <a:solidFill>
                <a:srgbClr val="dedc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1" name="Picture 4" descr="MCj02151650000[1]"/>
            <p:cNvPicPr/>
            <p:nvPr/>
          </p:nvPicPr>
          <p:blipFill>
            <a:blip r:embed="rId1"/>
            <a:stretch/>
          </p:blipFill>
          <p:spPr>
            <a:xfrm flipH="1" rot="21328800">
              <a:off x="684000" y="1700280"/>
              <a:ext cx="2305080" cy="2031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2" name="Group 5"/>
            <p:cNvGrpSpPr/>
            <p:nvPr/>
          </p:nvGrpSpPr>
          <p:grpSpPr>
            <a:xfrm>
              <a:off x="6797520" y="1779480"/>
              <a:ext cx="1624320" cy="1887840"/>
              <a:chOff x="6797520" y="1779480"/>
              <a:chExt cx="1624320" cy="1887840"/>
            </a:xfrm>
          </p:grpSpPr>
          <p:sp>
            <p:nvSpPr>
              <p:cNvPr id="313" name="Freeform 6"/>
              <p:cNvSpPr/>
              <p:nvPr/>
            </p:nvSpPr>
            <p:spPr>
              <a:xfrm rot="19894200">
                <a:off x="7125120" y="1911960"/>
                <a:ext cx="968760" cy="1622160"/>
              </a:xfrm>
              <a:custGeom>
                <a:avLst/>
                <a:gdLst>
                  <a:gd name="textAreaLeft" fmla="*/ 0 w 968760"/>
                  <a:gd name="textAreaRight" fmla="*/ 969120 w 968760"/>
                  <a:gd name="textAreaTop" fmla="*/ 0 h 1622160"/>
                  <a:gd name="textAreaBottom" fmla="*/ 1622520 h 1622160"/>
                </a:gdLst>
                <a:ahLst/>
                <a:rect l="textAreaLeft" t="textAreaTop" r="textAreaRight" b="textAreaBottom"/>
                <a:pathLst>
                  <a:path w="1527" h="2555">
                    <a:moveTo>
                      <a:pt x="300" y="0"/>
                    </a:moveTo>
                    <a:cubicBezTo>
                      <a:pt x="317" y="84"/>
                      <a:pt x="351" y="101"/>
                      <a:pt x="388" y="176"/>
                    </a:cubicBezTo>
                    <a:cubicBezTo>
                      <a:pt x="429" y="258"/>
                      <a:pt x="490" y="321"/>
                      <a:pt x="538" y="401"/>
                    </a:cubicBezTo>
                    <a:cubicBezTo>
                      <a:pt x="580" y="470"/>
                      <a:pt x="624" y="552"/>
                      <a:pt x="676" y="614"/>
                    </a:cubicBezTo>
                    <a:cubicBezTo>
                      <a:pt x="703" y="646"/>
                      <a:pt x="739" y="669"/>
                      <a:pt x="764" y="702"/>
                    </a:cubicBezTo>
                    <a:cubicBezTo>
                      <a:pt x="839" y="803"/>
                      <a:pt x="907" y="932"/>
                      <a:pt x="1014" y="1002"/>
                    </a:cubicBezTo>
                    <a:cubicBezTo>
                      <a:pt x="1073" y="1091"/>
                      <a:pt x="1153" y="1153"/>
                      <a:pt x="1227" y="1228"/>
                    </a:cubicBezTo>
                    <a:cubicBezTo>
                      <a:pt x="1318" y="1320"/>
                      <a:pt x="1214" y="1245"/>
                      <a:pt x="1302" y="1303"/>
                    </a:cubicBezTo>
                    <a:cubicBezTo>
                      <a:pt x="1310" y="1315"/>
                      <a:pt x="1314" y="1332"/>
                      <a:pt x="1327" y="1340"/>
                    </a:cubicBezTo>
                    <a:cubicBezTo>
                      <a:pt x="1349" y="1354"/>
                      <a:pt x="1402" y="1365"/>
                      <a:pt x="1402" y="1365"/>
                    </a:cubicBezTo>
                    <a:cubicBezTo>
                      <a:pt x="1445" y="1398"/>
                      <a:pt x="1476" y="1435"/>
                      <a:pt x="1527" y="1453"/>
                    </a:cubicBezTo>
                    <a:cubicBezTo>
                      <a:pt x="1502" y="1461"/>
                      <a:pt x="1478" y="1472"/>
                      <a:pt x="1452" y="1478"/>
                    </a:cubicBezTo>
                    <a:cubicBezTo>
                      <a:pt x="1419" y="1486"/>
                      <a:pt x="1352" y="1503"/>
                      <a:pt x="1352" y="1503"/>
                    </a:cubicBezTo>
                    <a:cubicBezTo>
                      <a:pt x="1284" y="1548"/>
                      <a:pt x="1254" y="1543"/>
                      <a:pt x="1164" y="1553"/>
                    </a:cubicBezTo>
                    <a:cubicBezTo>
                      <a:pt x="1123" y="1580"/>
                      <a:pt x="1082" y="1591"/>
                      <a:pt x="1039" y="1616"/>
                    </a:cubicBezTo>
                    <a:cubicBezTo>
                      <a:pt x="942" y="1672"/>
                      <a:pt x="850" y="1727"/>
                      <a:pt x="751" y="1779"/>
                    </a:cubicBezTo>
                    <a:cubicBezTo>
                      <a:pt x="708" y="1801"/>
                      <a:pt x="665" y="1825"/>
                      <a:pt x="626" y="1854"/>
                    </a:cubicBezTo>
                    <a:cubicBezTo>
                      <a:pt x="607" y="1868"/>
                      <a:pt x="594" y="1889"/>
                      <a:pt x="576" y="1904"/>
                    </a:cubicBezTo>
                    <a:cubicBezTo>
                      <a:pt x="560" y="1918"/>
                      <a:pt x="543" y="1929"/>
                      <a:pt x="526" y="1941"/>
                    </a:cubicBezTo>
                    <a:cubicBezTo>
                      <a:pt x="472" y="1978"/>
                      <a:pt x="408" y="2018"/>
                      <a:pt x="363" y="2067"/>
                    </a:cubicBezTo>
                    <a:cubicBezTo>
                      <a:pt x="177" y="2273"/>
                      <a:pt x="366" y="2081"/>
                      <a:pt x="250" y="2229"/>
                    </a:cubicBezTo>
                    <a:cubicBezTo>
                      <a:pt x="235" y="2248"/>
                      <a:pt x="216" y="2261"/>
                      <a:pt x="200" y="2279"/>
                    </a:cubicBezTo>
                    <a:cubicBezTo>
                      <a:pt x="182" y="2299"/>
                      <a:pt x="166" y="2320"/>
                      <a:pt x="150" y="2342"/>
                    </a:cubicBezTo>
                    <a:cubicBezTo>
                      <a:pt x="117" y="2386"/>
                      <a:pt x="102" y="2428"/>
                      <a:pt x="62" y="2467"/>
                    </a:cubicBezTo>
                    <a:cubicBezTo>
                      <a:pt x="49" y="2509"/>
                      <a:pt x="29" y="2523"/>
                      <a:pt x="0" y="2555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Arc 7"/>
              <p:cNvSpPr/>
              <p:nvPr/>
            </p:nvSpPr>
            <p:spPr>
              <a:xfrm rot="13090800">
                <a:off x="7039080" y="2470680"/>
                <a:ext cx="864720" cy="675360"/>
              </a:xfrm>
              <a:custGeom>
                <a:avLst/>
                <a:gdLst>
                  <a:gd name="textAreaLeft" fmla="*/ 0 w 864720"/>
                  <a:gd name="textAreaRight" fmla="*/ 865080 w 864720"/>
                  <a:gd name="textAreaTop" fmla="*/ 0 h 675360"/>
                  <a:gd name="textAreaBottom" fmla="*/ 675720 h 675360"/>
                </a:gdLst>
                <a:ahLst/>
                <a:rect l="textAreaLeft" t="textAreaTop" r="textAreaRight" b="textAreaBottom"/>
                <a:pathLst>
                  <a:path fill="none" w="21368" h="21600">
                    <a:moveTo>
                      <a:pt x="-1" y="0"/>
                    </a:moveTo>
                    <a:cubicBezTo>
                      <a:pt x="10708" y="0"/>
                      <a:pt x="19800" y="7845"/>
                      <a:pt x="21367" y="18439"/>
                    </a:cubicBezTo>
                  </a:path>
                  <a:path stroke="0" w="21368" h="21600">
                    <a:moveTo>
                      <a:pt x="-1" y="0"/>
                    </a:moveTo>
                    <a:cubicBezTo>
                      <a:pt x="10708" y="0"/>
                      <a:pt x="19800" y="7845"/>
                      <a:pt x="21367" y="18439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Oval 8"/>
              <p:cNvSpPr/>
              <p:nvPr/>
            </p:nvSpPr>
            <p:spPr>
              <a:xfrm rot="20226000">
                <a:off x="7270560" y="2610720"/>
                <a:ext cx="154080" cy="58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Arc 9"/>
              <p:cNvSpPr/>
              <p:nvPr/>
            </p:nvSpPr>
            <p:spPr>
              <a:xfrm rot="1261200">
                <a:off x="7121520" y="2499840"/>
                <a:ext cx="654480" cy="722880"/>
              </a:xfrm>
              <a:custGeom>
                <a:avLst/>
                <a:gdLst>
                  <a:gd name="textAreaLeft" fmla="*/ 0 w 654480"/>
                  <a:gd name="textAreaRight" fmla="*/ 654840 w 654480"/>
                  <a:gd name="textAreaTop" fmla="*/ 0 h 722880"/>
                  <a:gd name="textAreaBottom" fmla="*/ 723240 h 722880"/>
                </a:gdLst>
                <a:ahLst/>
                <a:rect l="textAreaLeft" t="textAreaTop" r="textAreaRight" b="textAreaBottom"/>
                <a:pathLst>
                  <a:path fill="none" w="21628" h="21600">
                    <a:moveTo>
                      <a:pt x="0" y="0"/>
                    </a:moveTo>
                    <a:cubicBezTo>
                      <a:pt x="9" y="0"/>
                      <a:pt x="18" y="-1"/>
                      <a:pt x="28" y="0"/>
                    </a:cubicBezTo>
                    <a:cubicBezTo>
                      <a:pt x="11957" y="0"/>
                      <a:pt x="21628" y="9670"/>
                      <a:pt x="21628" y="21600"/>
                    </a:cubicBezTo>
                  </a:path>
                  <a:path stroke="0" w="21628" h="21600">
                    <a:moveTo>
                      <a:pt x="0" y="0"/>
                    </a:moveTo>
                    <a:cubicBezTo>
                      <a:pt x="9" y="0"/>
                      <a:pt x="18" y="-1"/>
                      <a:pt x="28" y="0"/>
                    </a:cubicBezTo>
                    <a:cubicBezTo>
                      <a:pt x="11957" y="0"/>
                      <a:pt x="21628" y="9670"/>
                      <a:pt x="21628" y="21600"/>
                    </a:cubicBezTo>
                    <a:lnTo>
                      <a:pt x="28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7" name="Picture 15" descr="hand-mirror"/>
            <p:cNvPicPr/>
            <p:nvPr/>
          </p:nvPicPr>
          <p:blipFill>
            <a:blip r:embed="rId2"/>
            <a:stretch/>
          </p:blipFill>
          <p:spPr>
            <a:xfrm>
              <a:off x="2987640" y="3645000"/>
              <a:ext cx="412272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Line 12"/>
            <p:cNvSpPr/>
            <p:nvPr/>
          </p:nvSpPr>
          <p:spPr>
            <a:xfrm>
              <a:off x="2916360" y="3213000"/>
              <a:ext cx="1942920" cy="107964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13"/>
            <p:cNvSpPr/>
            <p:nvPr/>
          </p:nvSpPr>
          <p:spPr>
            <a:xfrm flipV="1">
              <a:off x="4932360" y="2997360"/>
              <a:ext cx="2303640" cy="129528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0" name="Picture 17" descr="MCj02151650000[1]"/>
          <p:cNvPicPr/>
          <p:nvPr/>
        </p:nvPicPr>
        <p:blipFill>
          <a:blip r:embed="rId3">
            <a:lum bright="18000"/>
          </a:blip>
          <a:stretch/>
        </p:blipFill>
        <p:spPr>
          <a:xfrm rot="11071200">
            <a:off x="826560" y="4797000"/>
            <a:ext cx="2305080" cy="2032560"/>
          </a:xfrm>
          <a:prstGeom prst="rect">
            <a:avLst/>
          </a:prstGeom>
          <a:ln w="0">
            <a:noFill/>
          </a:ln>
        </p:spPr>
      </p:pic>
      <p:sp>
        <p:nvSpPr>
          <p:cNvPr id="321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4" descr="MCj02151650000[1]"/>
          <p:cNvPicPr/>
          <p:nvPr/>
        </p:nvPicPr>
        <p:blipFill>
          <a:blip r:embed="rId1">
            <a:lum bright="18000"/>
          </a:blip>
          <a:stretch/>
        </p:blipFill>
        <p:spPr>
          <a:xfrm rot="9039600">
            <a:off x="2194920" y="5373000"/>
            <a:ext cx="2305080" cy="203184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50920" y="1196640"/>
            <a:ext cx="252072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Change the direction of the light beam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35640" y="4652640"/>
            <a:ext cx="406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Light is still reflected.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You see a reflection  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  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- 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in a different    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  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direction.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  <p:grpSp>
        <p:nvGrpSpPr>
          <p:cNvPr id="325" name="Group 15"/>
          <p:cNvGrpSpPr/>
          <p:nvPr/>
        </p:nvGrpSpPr>
        <p:grpSpPr>
          <a:xfrm>
            <a:off x="1678320" y="257040"/>
            <a:ext cx="5442480" cy="5548320"/>
            <a:chOff x="1678320" y="257040"/>
            <a:chExt cx="5442480" cy="5548320"/>
          </a:xfrm>
        </p:grpSpPr>
        <p:sp>
          <p:nvSpPr>
            <p:cNvPr id="326" name="Line 2"/>
            <p:cNvSpPr/>
            <p:nvPr/>
          </p:nvSpPr>
          <p:spPr>
            <a:xfrm flipV="1">
              <a:off x="3635280" y="4294080"/>
              <a:ext cx="792000" cy="1511280"/>
            </a:xfrm>
            <a:prstGeom prst="line">
              <a:avLst/>
            </a:prstGeom>
            <a:ln w="114480">
              <a:solidFill>
                <a:srgbClr val="dedc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7" name="Picture 5" descr="MCj02151650000[1]"/>
            <p:cNvPicPr/>
            <p:nvPr/>
          </p:nvPicPr>
          <p:blipFill>
            <a:blip r:embed="rId2"/>
            <a:stretch/>
          </p:blipFill>
          <p:spPr>
            <a:xfrm flipH="1" rot="1350000">
              <a:off x="1978920" y="620640"/>
              <a:ext cx="2305080" cy="203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8" name="Group 6"/>
            <p:cNvGrpSpPr/>
            <p:nvPr/>
          </p:nvGrpSpPr>
          <p:grpSpPr>
            <a:xfrm>
              <a:off x="5249160" y="346320"/>
              <a:ext cx="1871640" cy="1524240"/>
              <a:chOff x="5249160" y="346320"/>
              <a:chExt cx="1871640" cy="1524240"/>
            </a:xfrm>
          </p:grpSpPr>
          <p:sp>
            <p:nvSpPr>
              <p:cNvPr id="329" name="Freeform 7"/>
              <p:cNvSpPr/>
              <p:nvPr/>
            </p:nvSpPr>
            <p:spPr>
              <a:xfrm rot="17576400">
                <a:off x="5700600" y="297000"/>
                <a:ext cx="968760" cy="1622520"/>
              </a:xfrm>
              <a:custGeom>
                <a:avLst/>
                <a:gdLst>
                  <a:gd name="textAreaLeft" fmla="*/ 0 w 968760"/>
                  <a:gd name="textAreaRight" fmla="*/ 969120 w 968760"/>
                  <a:gd name="textAreaTop" fmla="*/ 0 h 1622520"/>
                  <a:gd name="textAreaBottom" fmla="*/ 1622880 h 1622520"/>
                </a:gdLst>
                <a:ahLst/>
                <a:rect l="textAreaLeft" t="textAreaTop" r="textAreaRight" b="textAreaBottom"/>
                <a:pathLst>
                  <a:path w="1527" h="2555">
                    <a:moveTo>
                      <a:pt x="300" y="0"/>
                    </a:moveTo>
                    <a:cubicBezTo>
                      <a:pt x="317" y="84"/>
                      <a:pt x="351" y="101"/>
                      <a:pt x="388" y="176"/>
                    </a:cubicBezTo>
                    <a:cubicBezTo>
                      <a:pt x="429" y="258"/>
                      <a:pt x="490" y="321"/>
                      <a:pt x="538" y="401"/>
                    </a:cubicBezTo>
                    <a:cubicBezTo>
                      <a:pt x="580" y="470"/>
                      <a:pt x="624" y="552"/>
                      <a:pt x="676" y="614"/>
                    </a:cubicBezTo>
                    <a:cubicBezTo>
                      <a:pt x="703" y="646"/>
                      <a:pt x="739" y="669"/>
                      <a:pt x="764" y="702"/>
                    </a:cubicBezTo>
                    <a:cubicBezTo>
                      <a:pt x="839" y="803"/>
                      <a:pt x="907" y="932"/>
                      <a:pt x="1014" y="1002"/>
                    </a:cubicBezTo>
                    <a:cubicBezTo>
                      <a:pt x="1073" y="1091"/>
                      <a:pt x="1153" y="1153"/>
                      <a:pt x="1227" y="1228"/>
                    </a:cubicBezTo>
                    <a:cubicBezTo>
                      <a:pt x="1318" y="1320"/>
                      <a:pt x="1214" y="1245"/>
                      <a:pt x="1302" y="1303"/>
                    </a:cubicBezTo>
                    <a:cubicBezTo>
                      <a:pt x="1310" y="1315"/>
                      <a:pt x="1314" y="1332"/>
                      <a:pt x="1327" y="1340"/>
                    </a:cubicBezTo>
                    <a:cubicBezTo>
                      <a:pt x="1349" y="1354"/>
                      <a:pt x="1402" y="1365"/>
                      <a:pt x="1402" y="1365"/>
                    </a:cubicBezTo>
                    <a:cubicBezTo>
                      <a:pt x="1445" y="1398"/>
                      <a:pt x="1476" y="1435"/>
                      <a:pt x="1527" y="1453"/>
                    </a:cubicBezTo>
                    <a:cubicBezTo>
                      <a:pt x="1502" y="1461"/>
                      <a:pt x="1478" y="1472"/>
                      <a:pt x="1452" y="1478"/>
                    </a:cubicBezTo>
                    <a:cubicBezTo>
                      <a:pt x="1419" y="1486"/>
                      <a:pt x="1352" y="1503"/>
                      <a:pt x="1352" y="1503"/>
                    </a:cubicBezTo>
                    <a:cubicBezTo>
                      <a:pt x="1284" y="1548"/>
                      <a:pt x="1254" y="1543"/>
                      <a:pt x="1164" y="1553"/>
                    </a:cubicBezTo>
                    <a:cubicBezTo>
                      <a:pt x="1123" y="1580"/>
                      <a:pt x="1082" y="1591"/>
                      <a:pt x="1039" y="1616"/>
                    </a:cubicBezTo>
                    <a:cubicBezTo>
                      <a:pt x="942" y="1672"/>
                      <a:pt x="850" y="1727"/>
                      <a:pt x="751" y="1779"/>
                    </a:cubicBezTo>
                    <a:cubicBezTo>
                      <a:pt x="708" y="1801"/>
                      <a:pt x="665" y="1825"/>
                      <a:pt x="626" y="1854"/>
                    </a:cubicBezTo>
                    <a:cubicBezTo>
                      <a:pt x="607" y="1868"/>
                      <a:pt x="594" y="1889"/>
                      <a:pt x="576" y="1904"/>
                    </a:cubicBezTo>
                    <a:cubicBezTo>
                      <a:pt x="560" y="1918"/>
                      <a:pt x="543" y="1929"/>
                      <a:pt x="526" y="1941"/>
                    </a:cubicBezTo>
                    <a:cubicBezTo>
                      <a:pt x="472" y="1978"/>
                      <a:pt x="408" y="2018"/>
                      <a:pt x="363" y="2067"/>
                    </a:cubicBezTo>
                    <a:cubicBezTo>
                      <a:pt x="177" y="2273"/>
                      <a:pt x="366" y="2081"/>
                      <a:pt x="250" y="2229"/>
                    </a:cubicBezTo>
                    <a:cubicBezTo>
                      <a:pt x="235" y="2248"/>
                      <a:pt x="216" y="2261"/>
                      <a:pt x="200" y="2279"/>
                    </a:cubicBezTo>
                    <a:cubicBezTo>
                      <a:pt x="182" y="2299"/>
                      <a:pt x="166" y="2320"/>
                      <a:pt x="150" y="2342"/>
                    </a:cubicBezTo>
                    <a:cubicBezTo>
                      <a:pt x="117" y="2386"/>
                      <a:pt x="102" y="2428"/>
                      <a:pt x="62" y="2467"/>
                    </a:cubicBezTo>
                    <a:cubicBezTo>
                      <a:pt x="49" y="2509"/>
                      <a:pt x="29" y="2523"/>
                      <a:pt x="0" y="2555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Arc 8"/>
              <p:cNvSpPr/>
              <p:nvPr/>
            </p:nvSpPr>
            <p:spPr>
              <a:xfrm rot="10773000">
                <a:off x="5697720" y="923400"/>
                <a:ext cx="864720" cy="675360"/>
              </a:xfrm>
              <a:custGeom>
                <a:avLst/>
                <a:gdLst>
                  <a:gd name="textAreaLeft" fmla="*/ 0 w 864720"/>
                  <a:gd name="textAreaRight" fmla="*/ 865080 w 864720"/>
                  <a:gd name="textAreaTop" fmla="*/ 0 h 675360"/>
                  <a:gd name="textAreaBottom" fmla="*/ 675720 h 675360"/>
                </a:gdLst>
                <a:ahLst/>
                <a:rect l="textAreaLeft" t="textAreaTop" r="textAreaRight" b="textAreaBottom"/>
                <a:pathLst>
                  <a:path fill="none" w="21368" h="21600">
                    <a:moveTo>
                      <a:pt x="-1" y="0"/>
                    </a:moveTo>
                    <a:cubicBezTo>
                      <a:pt x="10708" y="0"/>
                      <a:pt x="19800" y="7845"/>
                      <a:pt x="21367" y="18439"/>
                    </a:cubicBezTo>
                  </a:path>
                  <a:path stroke="0" w="21368" h="21600">
                    <a:moveTo>
                      <a:pt x="-1" y="0"/>
                    </a:moveTo>
                    <a:cubicBezTo>
                      <a:pt x="10708" y="0"/>
                      <a:pt x="19800" y="7845"/>
                      <a:pt x="21367" y="18439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Oval 9"/>
              <p:cNvSpPr/>
              <p:nvPr/>
            </p:nvSpPr>
            <p:spPr>
              <a:xfrm rot="17907600">
                <a:off x="6016320" y="1119240"/>
                <a:ext cx="154080" cy="58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Arc 10"/>
              <p:cNvSpPr/>
              <p:nvPr/>
            </p:nvSpPr>
            <p:spPr>
              <a:xfrm rot="20542800">
                <a:off x="5818680" y="955080"/>
                <a:ext cx="654480" cy="723240"/>
              </a:xfrm>
              <a:custGeom>
                <a:avLst/>
                <a:gdLst>
                  <a:gd name="textAreaLeft" fmla="*/ 0 w 654480"/>
                  <a:gd name="textAreaRight" fmla="*/ 654840 w 654480"/>
                  <a:gd name="textAreaTop" fmla="*/ 0 h 723240"/>
                  <a:gd name="textAreaBottom" fmla="*/ 723600 h 723240"/>
                </a:gdLst>
                <a:ahLst/>
                <a:rect l="textAreaLeft" t="textAreaTop" r="textAreaRight" b="textAreaBottom"/>
                <a:pathLst>
                  <a:path fill="none" w="21628" h="21600">
                    <a:moveTo>
                      <a:pt x="0" y="0"/>
                    </a:moveTo>
                    <a:cubicBezTo>
                      <a:pt x="9" y="0"/>
                      <a:pt x="18" y="-1"/>
                      <a:pt x="28" y="0"/>
                    </a:cubicBezTo>
                    <a:cubicBezTo>
                      <a:pt x="11957" y="0"/>
                      <a:pt x="21628" y="9670"/>
                      <a:pt x="21628" y="21600"/>
                    </a:cubicBezTo>
                  </a:path>
                  <a:path stroke="0" w="21628" h="21600">
                    <a:moveTo>
                      <a:pt x="0" y="0"/>
                    </a:moveTo>
                    <a:cubicBezTo>
                      <a:pt x="9" y="0"/>
                      <a:pt x="18" y="-1"/>
                      <a:pt x="28" y="0"/>
                    </a:cubicBezTo>
                    <a:cubicBezTo>
                      <a:pt x="11957" y="0"/>
                      <a:pt x="21628" y="9670"/>
                      <a:pt x="21628" y="21600"/>
                    </a:cubicBezTo>
                    <a:lnTo>
                      <a:pt x="28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3" name="Picture 11" descr="hand-mirror"/>
            <p:cNvPicPr/>
            <p:nvPr/>
          </p:nvPicPr>
          <p:blipFill>
            <a:blip r:embed="rId3"/>
            <a:stretch/>
          </p:blipFill>
          <p:spPr>
            <a:xfrm>
              <a:off x="2627280" y="3141360"/>
              <a:ext cx="412272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Line 12"/>
            <p:cNvSpPr/>
            <p:nvPr/>
          </p:nvSpPr>
          <p:spPr>
            <a:xfrm>
              <a:off x="3492360" y="2133360"/>
              <a:ext cx="1079640" cy="158436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3"/>
            <p:cNvSpPr/>
            <p:nvPr/>
          </p:nvSpPr>
          <p:spPr>
            <a:xfrm flipV="1">
              <a:off x="4716360" y="1701720"/>
              <a:ext cx="1079640" cy="201600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35272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Multiple </a:t>
            </a:r>
            <a:br>
              <a:rPr sz="4000"/>
            </a:b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reflections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3745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lamp hangs between two large mirrors on opposite walls.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reflection in the first mirror is reflected in the second mirror, which is reflected again in the first mirror - - -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39" name="Picture 4" descr="reflections3"/>
          <p:cNvPicPr/>
          <p:nvPr/>
        </p:nvPicPr>
        <p:blipFill>
          <a:blip r:embed="rId1"/>
          <a:stretch/>
        </p:blipFill>
        <p:spPr>
          <a:xfrm>
            <a:off x="4500720" y="404640"/>
            <a:ext cx="4360680" cy="5877000"/>
          </a:xfrm>
          <a:prstGeom prst="rect">
            <a:avLst/>
          </a:prstGeom>
          <a:ln w="0">
            <a:noFill/>
          </a:ln>
        </p:spPr>
      </p:pic>
      <p:sp>
        <p:nvSpPr>
          <p:cNvPr id="34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050920" y="1628640"/>
            <a:ext cx="489744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Now for 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some 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games</a:t>
            </a:r>
            <a:r>
              <a:rPr b="1" lang="en-GB" sz="1000" spc="-1" strike="noStrike">
                <a:solidFill>
                  <a:srgbClr val="fe2110"/>
                </a:solidFill>
                <a:latin typeface="Comic Sans MS"/>
              </a:rPr>
              <a:t> 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!</a:t>
            </a:r>
            <a:endParaRPr b="1" lang="en-US" sz="6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4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Sources of ligh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700360" y="6021360"/>
            <a:ext cx="590544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Hot objects give out light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23" name="Picture 4" descr="Bonfire%20ablaze"/>
          <p:cNvPicPr/>
          <p:nvPr/>
        </p:nvPicPr>
        <p:blipFill>
          <a:blip r:embed="rId1"/>
          <a:stretch/>
        </p:blipFill>
        <p:spPr>
          <a:xfrm>
            <a:off x="1476360" y="1557360"/>
            <a:ext cx="6083280" cy="42019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6012000" y="1773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A bonf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692360" y="1412640"/>
            <a:ext cx="540072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fe2110"/>
                </a:solidFill>
                <a:latin typeface="Comic Sans MS"/>
              </a:rPr>
              <a:t>Colour</a:t>
            </a:r>
            <a:endParaRPr b="1" lang="en-US" sz="10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4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80866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Sunlight shining on CDs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284360" y="1699920"/>
            <a:ext cx="41749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Where do the colours come from?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47" name="Picture 5" descr="CD colour larger"/>
          <p:cNvPicPr/>
          <p:nvPr/>
        </p:nvPicPr>
        <p:blipFill>
          <a:blip r:embed="rId1"/>
          <a:stretch/>
        </p:blipFill>
        <p:spPr>
          <a:xfrm>
            <a:off x="826920" y="1773360"/>
            <a:ext cx="3240360" cy="28843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9" descr="CDs bright smaller"/>
          <p:cNvPicPr/>
          <p:nvPr/>
        </p:nvPicPr>
        <p:blipFill>
          <a:blip r:embed="rId2"/>
          <a:stretch/>
        </p:blipFill>
        <p:spPr>
          <a:xfrm>
            <a:off x="3564000" y="2852640"/>
            <a:ext cx="4464000" cy="3498840"/>
          </a:xfrm>
          <a:prstGeom prst="rect">
            <a:avLst/>
          </a:prstGeom>
          <a:ln w="0">
            <a:noFill/>
          </a:ln>
        </p:spPr>
      </p:pic>
      <p:sp>
        <p:nvSpPr>
          <p:cNvPr id="34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8002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Rainbow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019640" y="1773000"/>
            <a:ext cx="158436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red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orange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yellow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green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blue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indigo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violet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52" name="Picture 7" descr="Skye rainbowcard"/>
          <p:cNvPicPr/>
          <p:nvPr/>
        </p:nvPicPr>
        <p:blipFill>
          <a:blip r:embed="rId1"/>
          <a:stretch/>
        </p:blipFill>
        <p:spPr>
          <a:xfrm>
            <a:off x="684360" y="1844640"/>
            <a:ext cx="6192720" cy="4044960"/>
          </a:xfrm>
          <a:prstGeom prst="rect">
            <a:avLst/>
          </a:prstGeom>
          <a:ln w="0">
            <a:noFill/>
          </a:ln>
        </p:spPr>
      </p:pic>
      <p:sp>
        <p:nvSpPr>
          <p:cNvPr id="3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Colours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511164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White light is made up of lots of colours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56" name="Picture 4" descr="MCj03918040000[1]"/>
          <p:cNvPicPr/>
          <p:nvPr/>
        </p:nvPicPr>
        <p:blipFill>
          <a:blip r:embed="rId1"/>
          <a:stretch/>
        </p:blipFill>
        <p:spPr>
          <a:xfrm>
            <a:off x="611280" y="3645000"/>
            <a:ext cx="3986280" cy="1079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9" descr="MCj01043500000[1]"/>
          <p:cNvPicPr/>
          <p:nvPr/>
        </p:nvPicPr>
        <p:blipFill>
          <a:blip r:embed="rId2"/>
          <a:stretch/>
        </p:blipFill>
        <p:spPr>
          <a:xfrm>
            <a:off x="4500720" y="4005360"/>
            <a:ext cx="3944880" cy="36957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4" descr="MCj01979380000[1]"/>
          <p:cNvPicPr/>
          <p:nvPr/>
        </p:nvPicPr>
        <p:blipFill>
          <a:blip r:embed="rId3"/>
          <a:stretch/>
        </p:blipFill>
        <p:spPr>
          <a:xfrm>
            <a:off x="6191280" y="836640"/>
            <a:ext cx="2952720" cy="2743200"/>
          </a:xfrm>
          <a:prstGeom prst="rect">
            <a:avLst/>
          </a:prstGeom>
          <a:ln w="0">
            <a:noFill/>
          </a:ln>
        </p:spPr>
      </p:pic>
      <p:sp>
        <p:nvSpPr>
          <p:cNvPr id="35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Colours from white ligh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425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                 </a:t>
            </a: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ook at a lamp                </a:t>
            </a: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               through the grating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You will see                           colours.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62" name="Picture 4" descr="difrraction and lamp"/>
          <p:cNvPicPr/>
          <p:nvPr/>
        </p:nvPicPr>
        <p:blipFill>
          <a:blip r:embed="rId1"/>
          <a:stretch/>
        </p:blipFill>
        <p:spPr>
          <a:xfrm>
            <a:off x="324000" y="1628640"/>
            <a:ext cx="3168360" cy="24908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diffraction pattern"/>
          <p:cNvPicPr/>
          <p:nvPr/>
        </p:nvPicPr>
        <p:blipFill>
          <a:blip r:embed="rId2"/>
          <a:stretch/>
        </p:blipFill>
        <p:spPr>
          <a:xfrm>
            <a:off x="3419640" y="3429000"/>
            <a:ext cx="5205240" cy="2938320"/>
          </a:xfrm>
          <a:prstGeom prst="rect">
            <a:avLst/>
          </a:prstGeom>
          <a:ln w="0">
            <a:noFill/>
          </a:ln>
        </p:spPr>
      </p:pic>
      <p:sp>
        <p:nvSpPr>
          <p:cNvPr id="3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532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e211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red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6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0"/>
            <a:ext cx="953928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blue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7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76360" y="692280"/>
            <a:ext cx="68515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Adding colours</a:t>
            </a:r>
            <a:br>
              <a:rPr sz="6000"/>
            </a:b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 with light</a:t>
            </a:r>
            <a:endParaRPr b="1" lang="en-US" sz="6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55640" y="3573360"/>
            <a:ext cx="77040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This is different to adding paints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7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e2110"/>
                </a:solidFill>
                <a:latin typeface="Comic Sans MS"/>
              </a:rPr>
              <a:t>Red</a:t>
            </a:r>
            <a:r>
              <a:rPr b="1" lang="en-GB" sz="7200" spc="-1" strike="noStrike">
                <a:solidFill>
                  <a:srgbClr val="cc0099"/>
                </a:solidFill>
                <a:latin typeface="Comic Sans MS"/>
              </a:rPr>
              <a:t> + </a:t>
            </a:r>
            <a:r>
              <a:rPr b="1" lang="en-GB" sz="7200" spc="-1" strike="noStrike">
                <a:solidFill>
                  <a:srgbClr val="0000ff"/>
                </a:solidFill>
                <a:latin typeface="Comic Sans MS"/>
              </a:rPr>
              <a:t>Blue</a:t>
            </a:r>
            <a:endParaRPr b="1" lang="en-US" sz="72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gradFill rotWithShape="0">
            <a:gsLst>
              <a:gs pos="0">
                <a:srgbClr val="ff0900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2987640" y="1773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magen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The Sun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427280" y="980640"/>
            <a:ext cx="38876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Sunset in Venice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28" name="Picture 5" descr="sunset"/>
          <p:cNvPicPr/>
          <p:nvPr/>
        </p:nvPicPr>
        <p:blipFill>
          <a:blip r:embed="rId1"/>
          <a:stretch/>
        </p:blipFill>
        <p:spPr>
          <a:xfrm>
            <a:off x="1403280" y="1628640"/>
            <a:ext cx="6697800" cy="4676760"/>
          </a:xfrm>
          <a:prstGeom prst="rect">
            <a:avLst/>
          </a:prstGeom>
          <a:ln w="0">
            <a:noFill/>
          </a:ln>
        </p:spPr>
      </p:pic>
      <p:sp>
        <p:nvSpPr>
          <p:cNvPr id="22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ff"/>
                </a:solidFill>
                <a:latin typeface="Comic Sans MS"/>
              </a:rPr>
              <a:t>Blue</a:t>
            </a:r>
            <a:r>
              <a:rPr b="1" lang="en-GB" sz="7200" spc="-1" strike="noStrike">
                <a:solidFill>
                  <a:srgbClr val="00cc99"/>
                </a:solidFill>
                <a:latin typeface="Comic Sans MS"/>
              </a:rPr>
              <a:t> + </a:t>
            </a:r>
            <a:r>
              <a:rPr b="1" lang="en-GB" sz="7200" spc="-1" strike="noStrike">
                <a:solidFill>
                  <a:srgbClr val="00cc00"/>
                </a:solidFill>
                <a:latin typeface="Comic Sans MS"/>
              </a:rPr>
              <a:t>Green</a:t>
            </a:r>
            <a:endParaRPr b="1" lang="en-US" sz="72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ff00"/>
              </a:gs>
            </a:gsLst>
            <a:lin ang="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yan</a:t>
            </a:r>
            <a:endParaRPr b="1" lang="en-US" sz="4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8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cc00"/>
                </a:solidFill>
                <a:latin typeface="Comic Sans MS"/>
              </a:rPr>
              <a:t>Green</a:t>
            </a: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 </a:t>
            </a:r>
            <a:r>
              <a:rPr b="1" lang="en-GB" sz="10000" spc="-1" strike="noStrike">
                <a:solidFill>
                  <a:srgbClr val="f4ee00"/>
                </a:solidFill>
                <a:latin typeface="Comic Sans MS"/>
              </a:rPr>
              <a:t>+</a:t>
            </a: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 Red</a:t>
            </a:r>
            <a:endParaRPr b="1" lang="en-US" sz="5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yellow</a:t>
            </a:r>
            <a:endParaRPr b="1" lang="en-US" sz="36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8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4560" y="0"/>
            <a:ext cx="1022508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yellow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8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324000" y="33336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468360" y="549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07640" y="764640"/>
            <a:ext cx="516924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e2110"/>
                </a:solidFill>
                <a:latin typeface="Comic Sans MS"/>
              </a:rPr>
              <a:t>Fairy lights</a:t>
            </a:r>
            <a:endParaRPr b="1" lang="en-US" sz="66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98" name="AutoShape 4"/>
          <p:cNvSpPr/>
          <p:nvPr/>
        </p:nvSpPr>
        <p:spPr>
          <a:xfrm>
            <a:off x="2700360" y="314172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6"/>
          <p:cNvSpPr/>
          <p:nvPr/>
        </p:nvSpPr>
        <p:spPr>
          <a:xfrm>
            <a:off x="3635280" y="3716280"/>
            <a:ext cx="914400" cy="914400"/>
          </a:xfrm>
          <a:prstGeom prst="su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7"/>
          <p:cNvSpPr/>
          <p:nvPr/>
        </p:nvSpPr>
        <p:spPr>
          <a:xfrm>
            <a:off x="1116000" y="2781360"/>
            <a:ext cx="914400" cy="914400"/>
          </a:xfrm>
          <a:prstGeom prst="sun">
            <a:avLst>
              <a:gd name="adj" fmla="val 2500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8"/>
          <p:cNvSpPr/>
          <p:nvPr/>
        </p:nvSpPr>
        <p:spPr>
          <a:xfrm>
            <a:off x="4788000" y="4005360"/>
            <a:ext cx="914400" cy="914400"/>
          </a:xfrm>
          <a:prstGeom prst="su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9"/>
          <p:cNvSpPr/>
          <p:nvPr/>
        </p:nvSpPr>
        <p:spPr>
          <a:xfrm>
            <a:off x="1908000" y="3573360"/>
            <a:ext cx="914400" cy="914400"/>
          </a:xfrm>
          <a:prstGeom prst="su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0"/>
          <p:cNvSpPr/>
          <p:nvPr/>
        </p:nvSpPr>
        <p:spPr>
          <a:xfrm>
            <a:off x="2771640" y="4365720"/>
            <a:ext cx="914400" cy="9144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1"/>
          <p:cNvSpPr/>
          <p:nvPr/>
        </p:nvSpPr>
        <p:spPr>
          <a:xfrm>
            <a:off x="5003640" y="3141720"/>
            <a:ext cx="914400" cy="9144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2"/>
          <p:cNvSpPr/>
          <p:nvPr/>
        </p:nvSpPr>
        <p:spPr>
          <a:xfrm>
            <a:off x="3851280" y="4653000"/>
            <a:ext cx="914400" cy="914400"/>
          </a:xfrm>
          <a:prstGeom prst="sun">
            <a:avLst>
              <a:gd name="adj" fmla="val 2500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3"/>
          <p:cNvSpPr/>
          <p:nvPr/>
        </p:nvSpPr>
        <p:spPr>
          <a:xfrm>
            <a:off x="5867280" y="3933720"/>
            <a:ext cx="914400" cy="914400"/>
          </a:xfrm>
          <a:prstGeom prst="su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4"/>
          <p:cNvSpPr/>
          <p:nvPr/>
        </p:nvSpPr>
        <p:spPr>
          <a:xfrm>
            <a:off x="6012000" y="2781360"/>
            <a:ext cx="914400" cy="914400"/>
          </a:xfrm>
          <a:prstGeom prst="su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5"/>
          <p:cNvSpPr/>
          <p:nvPr/>
        </p:nvSpPr>
        <p:spPr>
          <a:xfrm>
            <a:off x="7020000" y="357336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6"/>
          <p:cNvSpPr/>
          <p:nvPr/>
        </p:nvSpPr>
        <p:spPr>
          <a:xfrm>
            <a:off x="7308720" y="2565360"/>
            <a:ext cx="914400" cy="914400"/>
          </a:xfrm>
          <a:prstGeom prst="su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Uses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asers- produce very bright beams of light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toms all give out their light toget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CDs use laser light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reflection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1738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2110"/>
                </a:solidFill>
                <a:latin typeface="Comic Sans MS"/>
              </a:rPr>
              <a:t>CDs</a:t>
            </a:r>
            <a:endParaRPr b="1" lang="en-US" sz="48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55640" y="3715920"/>
            <a:ext cx="7848720" cy="23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surface has tiny pits and smooth bits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a spiral patter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pits scatter light from a laser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smooth bits reflect the light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so a coded message is read.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grpSp>
        <p:nvGrpSpPr>
          <p:cNvPr id="416" name="Group 30"/>
          <p:cNvGrpSpPr/>
          <p:nvPr/>
        </p:nvGrpSpPr>
        <p:grpSpPr>
          <a:xfrm>
            <a:off x="900000" y="1557360"/>
            <a:ext cx="6748560" cy="2179440"/>
            <a:chOff x="900000" y="1557360"/>
            <a:chExt cx="6748560" cy="2179440"/>
          </a:xfrm>
        </p:grpSpPr>
        <p:grpSp>
          <p:nvGrpSpPr>
            <p:cNvPr id="417" name="Group 15"/>
            <p:cNvGrpSpPr/>
            <p:nvPr/>
          </p:nvGrpSpPr>
          <p:grpSpPr>
            <a:xfrm>
              <a:off x="900000" y="2675880"/>
              <a:ext cx="6748560" cy="1060920"/>
              <a:chOff x="900000" y="2675880"/>
              <a:chExt cx="6748560" cy="1060920"/>
            </a:xfrm>
          </p:grpSpPr>
          <p:grpSp>
            <p:nvGrpSpPr>
              <p:cNvPr id="418" name="Group 16"/>
              <p:cNvGrpSpPr/>
              <p:nvPr/>
            </p:nvGrpSpPr>
            <p:grpSpPr>
              <a:xfrm>
                <a:off x="900000" y="2675880"/>
                <a:ext cx="2013480" cy="1029240"/>
                <a:chOff x="900000" y="2675880"/>
                <a:chExt cx="2013480" cy="1029240"/>
              </a:xfrm>
            </p:grpSpPr>
            <p:sp>
              <p:nvSpPr>
                <p:cNvPr id="419" name="Arc 17"/>
                <p:cNvSpPr/>
                <p:nvPr/>
              </p:nvSpPr>
              <p:spPr>
                <a:xfrm rot="8542200">
                  <a:off x="1981080" y="2853000"/>
                  <a:ext cx="810720" cy="674640"/>
                </a:xfrm>
                <a:custGeom>
                  <a:avLst/>
                  <a:gdLst>
                    <a:gd name="textAreaLeft" fmla="*/ 0 w 810720"/>
                    <a:gd name="textAreaRight" fmla="*/ 811080 w 810720"/>
                    <a:gd name="textAreaTop" fmla="*/ 0 h 674640"/>
                    <a:gd name="textAreaBottom" fmla="*/ 675000 h 6746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Line 18"/>
                <p:cNvSpPr/>
                <p:nvPr/>
              </p:nvSpPr>
              <p:spPr>
                <a:xfrm flipV="1">
                  <a:off x="900000" y="3186360"/>
                  <a:ext cx="985680" cy="7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" name="Group 19"/>
              <p:cNvGrpSpPr/>
              <p:nvPr/>
            </p:nvGrpSpPr>
            <p:grpSpPr>
              <a:xfrm>
                <a:off x="2880720" y="2692080"/>
                <a:ext cx="2013480" cy="1029240"/>
                <a:chOff x="2880720" y="2692080"/>
                <a:chExt cx="2013480" cy="1029240"/>
              </a:xfrm>
            </p:grpSpPr>
            <p:sp>
              <p:nvSpPr>
                <p:cNvPr id="422" name="Arc 20"/>
                <p:cNvSpPr/>
                <p:nvPr/>
              </p:nvSpPr>
              <p:spPr>
                <a:xfrm rot="8542200">
                  <a:off x="3961800" y="2869200"/>
                  <a:ext cx="810720" cy="674640"/>
                </a:xfrm>
                <a:custGeom>
                  <a:avLst/>
                  <a:gdLst>
                    <a:gd name="textAreaLeft" fmla="*/ 0 w 810720"/>
                    <a:gd name="textAreaRight" fmla="*/ 811080 w 810720"/>
                    <a:gd name="textAreaTop" fmla="*/ 0 h 674640"/>
                    <a:gd name="textAreaBottom" fmla="*/ 675000 h 6746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Line 21"/>
                <p:cNvSpPr/>
                <p:nvPr/>
              </p:nvSpPr>
              <p:spPr>
                <a:xfrm flipV="1">
                  <a:off x="2880720" y="3202560"/>
                  <a:ext cx="985680" cy="7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Group 22"/>
              <p:cNvGrpSpPr/>
              <p:nvPr/>
            </p:nvGrpSpPr>
            <p:grpSpPr>
              <a:xfrm>
                <a:off x="4866840" y="2707560"/>
                <a:ext cx="2013480" cy="1029240"/>
                <a:chOff x="4866840" y="2707560"/>
                <a:chExt cx="2013480" cy="1029240"/>
              </a:xfrm>
            </p:grpSpPr>
            <p:sp>
              <p:nvSpPr>
                <p:cNvPr id="425" name="Arc 23"/>
                <p:cNvSpPr/>
                <p:nvPr/>
              </p:nvSpPr>
              <p:spPr>
                <a:xfrm rot="8542200">
                  <a:off x="5947920" y="2884680"/>
                  <a:ext cx="810720" cy="674640"/>
                </a:xfrm>
                <a:custGeom>
                  <a:avLst/>
                  <a:gdLst>
                    <a:gd name="textAreaLeft" fmla="*/ 0 w 810720"/>
                    <a:gd name="textAreaRight" fmla="*/ 811080 w 810720"/>
                    <a:gd name="textAreaTop" fmla="*/ 0 h 674640"/>
                    <a:gd name="textAreaBottom" fmla="*/ 675000 h 6746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Line 24"/>
                <p:cNvSpPr/>
                <p:nvPr/>
              </p:nvSpPr>
              <p:spPr>
                <a:xfrm flipV="1">
                  <a:off x="4866840" y="3218040"/>
                  <a:ext cx="985680" cy="7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7" name="Line 25"/>
              <p:cNvSpPr/>
              <p:nvPr/>
            </p:nvSpPr>
            <p:spPr>
              <a:xfrm flipV="1">
                <a:off x="6869520" y="3241800"/>
                <a:ext cx="779040" cy="75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Line 26"/>
            <p:cNvSpPr/>
            <p:nvPr/>
          </p:nvSpPr>
          <p:spPr>
            <a:xfrm>
              <a:off x="2700360" y="1702080"/>
              <a:ext cx="576360" cy="1511280"/>
            </a:xfrm>
            <a:prstGeom prst="line">
              <a:avLst/>
            </a:prstGeom>
            <a:ln w="69840">
              <a:solidFill>
                <a:srgbClr val="fe21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V="1">
              <a:off x="3276720" y="1557360"/>
              <a:ext cx="431640" cy="1656000"/>
            </a:xfrm>
            <a:prstGeom prst="line">
              <a:avLst/>
            </a:prstGeom>
            <a:ln w="82440">
              <a:solidFill>
                <a:srgbClr val="fe211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0" name="Picture 29" descr="spiral2"/>
          <p:cNvPicPr/>
          <p:nvPr/>
        </p:nvPicPr>
        <p:blipFill>
          <a:blip r:embed="rId1"/>
          <a:stretch/>
        </p:blipFill>
        <p:spPr>
          <a:xfrm>
            <a:off x="6227640" y="75096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31"/>
          <p:cNvSpPr/>
          <p:nvPr/>
        </p:nvSpPr>
        <p:spPr>
          <a:xfrm>
            <a:off x="7667640" y="836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pi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Нижний колонтитул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4" descr="laser show"/>
          <p:cNvPicPr/>
          <p:nvPr/>
        </p:nvPicPr>
        <p:blipFill>
          <a:blip r:embed="rId1"/>
          <a:stretch/>
        </p:blipFill>
        <p:spPr>
          <a:xfrm>
            <a:off x="250920" y="1268280"/>
            <a:ext cx="8642160" cy="468180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7489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   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Laser show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987280" y="5950080"/>
            <a:ext cx="576108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Physics is in everything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3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68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68" fill="hold"/>
                                        <p:tgtEl>
                                          <p:spTgt spid="4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68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68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2027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Stars 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4360" y="4292280"/>
            <a:ext cx="27352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Stars and galaxies give out light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6156360" y="616572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icture:  Liverpool Telesc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2" descr="Bubble_LT_NSO"/>
          <p:cNvPicPr/>
          <p:nvPr/>
        </p:nvPicPr>
        <p:blipFill>
          <a:blip r:embed="rId1"/>
          <a:stretch/>
        </p:blipFill>
        <p:spPr>
          <a:xfrm>
            <a:off x="3635280" y="981000"/>
            <a:ext cx="4680000" cy="4629240"/>
          </a:xfrm>
          <a:prstGeom prst="rect">
            <a:avLst/>
          </a:prstGeom>
          <a:ln w="0">
            <a:noFill/>
          </a:ln>
        </p:spPr>
      </p:pic>
      <p:sp>
        <p:nvSpPr>
          <p:cNvPr id="23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35280" y="836640"/>
            <a:ext cx="3313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Lightning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pic>
        <p:nvPicPr>
          <p:cNvPr id="236" name="Picture 7" descr="lightning"/>
          <p:cNvPicPr/>
          <p:nvPr/>
        </p:nvPicPr>
        <p:blipFill>
          <a:blip r:embed="rId1"/>
          <a:stretch/>
        </p:blipFill>
        <p:spPr>
          <a:xfrm>
            <a:off x="3564000" y="2781360"/>
            <a:ext cx="5040360" cy="3666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lightning"/>
          <p:cNvPicPr/>
          <p:nvPr/>
        </p:nvPicPr>
        <p:blipFill>
          <a:blip r:embed="rId2"/>
          <a:stretch/>
        </p:blipFill>
        <p:spPr>
          <a:xfrm>
            <a:off x="684360" y="765000"/>
            <a:ext cx="4464000" cy="3405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Lightening20050628cr"/>
          <p:cNvPicPr/>
          <p:nvPr/>
        </p:nvPicPr>
        <p:blipFill>
          <a:blip r:embed="rId3"/>
          <a:stretch/>
        </p:blipFill>
        <p:spPr>
          <a:xfrm>
            <a:off x="684360" y="4653000"/>
            <a:ext cx="2627280" cy="1773360"/>
          </a:xfrm>
          <a:prstGeom prst="rect">
            <a:avLst/>
          </a:prstGeom>
          <a:ln w="0">
            <a:noFill/>
          </a:ln>
        </p:spPr>
      </p:pic>
      <p:sp>
        <p:nvSpPr>
          <p:cNvPr id="23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A worm living in dark caves sends out light from its tail.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292360" y="2349360"/>
            <a:ext cx="331308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iquid droplets form a string of shining beads to attract insects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42" name="Picture 4" descr="sorces of light"/>
          <p:cNvPicPr/>
          <p:nvPr/>
        </p:nvPicPr>
        <p:blipFill>
          <a:blip r:embed="rId1"/>
          <a:stretch/>
        </p:blipFill>
        <p:spPr>
          <a:xfrm>
            <a:off x="611280" y="2205000"/>
            <a:ext cx="4645080" cy="35179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5"/>
          <p:cNvSpPr/>
          <p:nvPr/>
        </p:nvSpPr>
        <p:spPr>
          <a:xfrm>
            <a:off x="2268360" y="609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il of w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"/>
          <p:cNvSpPr/>
          <p:nvPr/>
        </p:nvSpPr>
        <p:spPr>
          <a:xfrm flipH="1" flipV="1">
            <a:off x="2484000" y="4221000"/>
            <a:ext cx="505080" cy="187344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Some cold things give out light: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6560" y="2781000"/>
            <a:ext cx="4681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some fungi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glow worms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ight sticks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EDs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‘</a:t>
            </a: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glow-in-the-dark’ stickers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48" name="Picture 7" descr="Glowing_fungi3"/>
          <p:cNvPicPr/>
          <p:nvPr/>
        </p:nvPicPr>
        <p:blipFill>
          <a:blip r:embed="rId1"/>
          <a:stretch/>
        </p:blipFill>
        <p:spPr>
          <a:xfrm>
            <a:off x="5940360" y="2349360"/>
            <a:ext cx="2451240" cy="2908440"/>
          </a:xfrm>
          <a:prstGeom prst="rect">
            <a:avLst/>
          </a:prstGeom>
          <a:ln w="0">
            <a:noFill/>
          </a:ln>
        </p:spPr>
      </p:pic>
      <p:sp>
        <p:nvSpPr>
          <p:cNvPr id="24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How do we see light sources?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284720" y="4365360"/>
            <a:ext cx="43927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Light travels from a source to our eyes.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33ff"/>
                </a:solidFill>
                <a:latin typeface="Comic Sans MS"/>
              </a:rPr>
              <a:t>We can see sources in a dark room.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52" name="Picture 6" descr="MCj02151650000[1]"/>
          <p:cNvPicPr/>
          <p:nvPr/>
        </p:nvPicPr>
        <p:blipFill>
          <a:blip r:embed="rId1"/>
          <a:stretch/>
        </p:blipFill>
        <p:spPr>
          <a:xfrm rot="11649600">
            <a:off x="1042200" y="3572640"/>
            <a:ext cx="2304720" cy="2032200"/>
          </a:xfrm>
          <a:prstGeom prst="rect">
            <a:avLst/>
          </a:prstGeom>
          <a:ln w="0">
            <a:noFill/>
          </a:ln>
        </p:spPr>
      </p:pic>
      <p:grpSp>
        <p:nvGrpSpPr>
          <p:cNvPr id="253" name="Group 15"/>
          <p:cNvGrpSpPr/>
          <p:nvPr/>
        </p:nvGrpSpPr>
        <p:grpSpPr>
          <a:xfrm>
            <a:off x="6418800" y="1966680"/>
            <a:ext cx="1355040" cy="1810440"/>
            <a:chOff x="6418800" y="1966680"/>
            <a:chExt cx="1355040" cy="1810440"/>
          </a:xfrm>
        </p:grpSpPr>
        <p:sp>
          <p:nvSpPr>
            <p:cNvPr id="254" name="Freeform 16"/>
            <p:cNvSpPr/>
            <p:nvPr/>
          </p:nvSpPr>
          <p:spPr>
            <a:xfrm rot="20749200">
              <a:off x="6620760" y="2060280"/>
              <a:ext cx="969120" cy="1622520"/>
            </a:xfrm>
            <a:custGeom>
              <a:avLst/>
              <a:gdLst>
                <a:gd name="textAreaLeft" fmla="*/ 0 w 969120"/>
                <a:gd name="textAreaRight" fmla="*/ 969480 w 969120"/>
                <a:gd name="textAreaTop" fmla="*/ 0 h 1622520"/>
                <a:gd name="textAreaBottom" fmla="*/ 1622880 h 1622520"/>
              </a:gdLst>
              <a:ahLst/>
              <a:rect l="textAreaLeft" t="textAreaTop" r="textAreaRight" b="textAreaBottom"/>
              <a:pathLst>
                <a:path w="1527" h="2555">
                  <a:moveTo>
                    <a:pt x="300" y="0"/>
                  </a:moveTo>
                  <a:cubicBezTo>
                    <a:pt x="317" y="84"/>
                    <a:pt x="351" y="101"/>
                    <a:pt x="388" y="176"/>
                  </a:cubicBezTo>
                  <a:cubicBezTo>
                    <a:pt x="429" y="258"/>
                    <a:pt x="490" y="321"/>
                    <a:pt x="538" y="401"/>
                  </a:cubicBezTo>
                  <a:cubicBezTo>
                    <a:pt x="580" y="470"/>
                    <a:pt x="624" y="552"/>
                    <a:pt x="676" y="614"/>
                  </a:cubicBezTo>
                  <a:cubicBezTo>
                    <a:pt x="703" y="646"/>
                    <a:pt x="739" y="669"/>
                    <a:pt x="764" y="702"/>
                  </a:cubicBezTo>
                  <a:cubicBezTo>
                    <a:pt x="839" y="803"/>
                    <a:pt x="907" y="932"/>
                    <a:pt x="1014" y="1002"/>
                  </a:cubicBezTo>
                  <a:cubicBezTo>
                    <a:pt x="1073" y="1091"/>
                    <a:pt x="1153" y="1153"/>
                    <a:pt x="1227" y="1228"/>
                  </a:cubicBezTo>
                  <a:cubicBezTo>
                    <a:pt x="1318" y="1320"/>
                    <a:pt x="1214" y="1245"/>
                    <a:pt x="1302" y="1303"/>
                  </a:cubicBezTo>
                  <a:cubicBezTo>
                    <a:pt x="1310" y="1315"/>
                    <a:pt x="1314" y="1332"/>
                    <a:pt x="1327" y="1340"/>
                  </a:cubicBezTo>
                  <a:cubicBezTo>
                    <a:pt x="1349" y="1354"/>
                    <a:pt x="1402" y="1365"/>
                    <a:pt x="1402" y="1365"/>
                  </a:cubicBezTo>
                  <a:cubicBezTo>
                    <a:pt x="1445" y="1398"/>
                    <a:pt x="1476" y="1435"/>
                    <a:pt x="1527" y="1453"/>
                  </a:cubicBezTo>
                  <a:cubicBezTo>
                    <a:pt x="1502" y="1461"/>
                    <a:pt x="1478" y="1472"/>
                    <a:pt x="1452" y="1478"/>
                  </a:cubicBezTo>
                  <a:cubicBezTo>
                    <a:pt x="1419" y="1486"/>
                    <a:pt x="1352" y="1503"/>
                    <a:pt x="1352" y="1503"/>
                  </a:cubicBezTo>
                  <a:cubicBezTo>
                    <a:pt x="1284" y="1548"/>
                    <a:pt x="1254" y="1543"/>
                    <a:pt x="1164" y="1553"/>
                  </a:cubicBezTo>
                  <a:cubicBezTo>
                    <a:pt x="1123" y="1580"/>
                    <a:pt x="1082" y="1591"/>
                    <a:pt x="1039" y="1616"/>
                  </a:cubicBezTo>
                  <a:cubicBezTo>
                    <a:pt x="942" y="1672"/>
                    <a:pt x="850" y="1727"/>
                    <a:pt x="751" y="1779"/>
                  </a:cubicBezTo>
                  <a:cubicBezTo>
                    <a:pt x="708" y="1801"/>
                    <a:pt x="665" y="1825"/>
                    <a:pt x="626" y="1854"/>
                  </a:cubicBezTo>
                  <a:cubicBezTo>
                    <a:pt x="607" y="1868"/>
                    <a:pt x="594" y="1889"/>
                    <a:pt x="576" y="1904"/>
                  </a:cubicBezTo>
                  <a:cubicBezTo>
                    <a:pt x="560" y="1918"/>
                    <a:pt x="543" y="1929"/>
                    <a:pt x="526" y="1941"/>
                  </a:cubicBezTo>
                  <a:cubicBezTo>
                    <a:pt x="472" y="1978"/>
                    <a:pt x="408" y="2018"/>
                    <a:pt x="363" y="2067"/>
                  </a:cubicBezTo>
                  <a:cubicBezTo>
                    <a:pt x="177" y="2273"/>
                    <a:pt x="366" y="2081"/>
                    <a:pt x="250" y="2229"/>
                  </a:cubicBezTo>
                  <a:cubicBezTo>
                    <a:pt x="235" y="2248"/>
                    <a:pt x="216" y="2261"/>
                    <a:pt x="200" y="2279"/>
                  </a:cubicBezTo>
                  <a:cubicBezTo>
                    <a:pt x="182" y="2299"/>
                    <a:pt x="166" y="2320"/>
                    <a:pt x="150" y="2342"/>
                  </a:cubicBezTo>
                  <a:cubicBezTo>
                    <a:pt x="117" y="2386"/>
                    <a:pt x="102" y="2428"/>
                    <a:pt x="62" y="2467"/>
                  </a:cubicBezTo>
                  <a:cubicBezTo>
                    <a:pt x="49" y="2509"/>
                    <a:pt x="29" y="2523"/>
                    <a:pt x="0" y="255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rc 17"/>
            <p:cNvSpPr/>
            <p:nvPr/>
          </p:nvSpPr>
          <p:spPr>
            <a:xfrm rot="13945800">
              <a:off x="6517800" y="2582280"/>
              <a:ext cx="864720" cy="675720"/>
            </a:xfrm>
            <a:custGeom>
              <a:avLst/>
              <a:gdLst>
                <a:gd name="textAreaLeft" fmla="*/ 0 w 864720"/>
                <a:gd name="textAreaRight" fmla="*/ 865080 w 864720"/>
                <a:gd name="textAreaTop" fmla="*/ 0 h 675720"/>
                <a:gd name="textAreaBottom" fmla="*/ 676080 h 675720"/>
              </a:gdLst>
              <a:ahLst/>
              <a:rect l="textAreaLeft" t="textAreaTop" r="textAreaRight" b="textAreaBottom"/>
              <a:pathLst>
                <a:path fill="none" w="21368" h="21600">
                  <a:moveTo>
                    <a:pt x="-1" y="0"/>
                  </a:moveTo>
                  <a:cubicBezTo>
                    <a:pt x="10708" y="0"/>
                    <a:pt x="19800" y="7845"/>
                    <a:pt x="21367" y="18439"/>
                  </a:cubicBezTo>
                </a:path>
                <a:path stroke="0" w="21368" h="21600">
                  <a:moveTo>
                    <a:pt x="-1" y="0"/>
                  </a:moveTo>
                  <a:cubicBezTo>
                    <a:pt x="10708" y="0"/>
                    <a:pt x="19800" y="7845"/>
                    <a:pt x="21367" y="1843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8"/>
            <p:cNvSpPr/>
            <p:nvPr/>
          </p:nvSpPr>
          <p:spPr>
            <a:xfrm rot="21081000">
              <a:off x="6729120" y="2688840"/>
              <a:ext cx="154080" cy="58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rc 19"/>
            <p:cNvSpPr/>
            <p:nvPr/>
          </p:nvSpPr>
          <p:spPr>
            <a:xfrm rot="2116200">
              <a:off x="6588000" y="2604600"/>
              <a:ext cx="654840" cy="723240"/>
            </a:xfrm>
            <a:custGeom>
              <a:avLst/>
              <a:gdLst>
                <a:gd name="textAreaLeft" fmla="*/ 0 w 654840"/>
                <a:gd name="textAreaRight" fmla="*/ 655200 w 654840"/>
                <a:gd name="textAreaTop" fmla="*/ 0 h 723240"/>
                <a:gd name="textAreaBottom" fmla="*/ 723600 h 723240"/>
              </a:gdLst>
              <a:ahLst/>
              <a:rect l="textAreaLeft" t="textAreaTop" r="textAreaRight" b="textAreaBottom"/>
              <a:pathLst>
                <a:path fill="none" w="21628" h="21600">
                  <a:moveTo>
                    <a:pt x="0" y="0"/>
                  </a:moveTo>
                  <a:cubicBezTo>
                    <a:pt x="9" y="0"/>
                    <a:pt x="18" y="-1"/>
                    <a:pt x="28" y="0"/>
                  </a:cubicBezTo>
                  <a:cubicBezTo>
                    <a:pt x="11957" y="0"/>
                    <a:pt x="21628" y="9670"/>
                    <a:pt x="21628" y="21600"/>
                  </a:cubicBezTo>
                </a:path>
                <a:path stroke="0" w="21628" h="21600">
                  <a:moveTo>
                    <a:pt x="0" y="0"/>
                  </a:moveTo>
                  <a:cubicBezTo>
                    <a:pt x="9" y="0"/>
                    <a:pt x="18" y="-1"/>
                    <a:pt x="28" y="0"/>
                  </a:cubicBezTo>
                  <a:cubicBezTo>
                    <a:pt x="11957" y="0"/>
                    <a:pt x="21628" y="9670"/>
                    <a:pt x="21628" y="21600"/>
                  </a:cubicBezTo>
                  <a:lnTo>
                    <a:pt x="28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Line 20"/>
          <p:cNvSpPr/>
          <p:nvPr/>
        </p:nvSpPr>
        <p:spPr>
          <a:xfrm flipV="1">
            <a:off x="3419640" y="3141720"/>
            <a:ext cx="2952720" cy="100800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Can we see in the dark?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55640" y="1981080"/>
            <a:ext cx="770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If there is </a:t>
            </a:r>
            <a:r>
              <a:rPr b="1" lang="en-GB" sz="2800" spc="-1" strike="noStrike" u="sng">
                <a:solidFill>
                  <a:srgbClr val="9933ff"/>
                </a:solidFill>
                <a:uFillTx/>
                <a:latin typeface="Comic Sans MS"/>
              </a:rPr>
              <a:t>no</a:t>
            </a: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 light 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 cannot see anything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Let’s try a test– 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ut a few small objects into the black bag----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8T18:32:18Z</dcterms:created>
  <dc:creator>Ann Marks</dc:creator>
  <dc:description/>
  <dc:language>en-US</dc:language>
  <cp:lastModifiedBy>LEGION</cp:lastModifiedBy>
  <dcterms:modified xsi:type="dcterms:W3CDTF">2018-03-12T09:25:35Z</dcterms:modified>
  <cp:revision>90</cp:revision>
  <dc:subject/>
  <dc:title>WOW !</dc:title>
</cp:coreProperties>
</file>